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1C9F-07CF-4EF4-9F7F-9766FB7C6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CDC6-82BE-4554-8D64-D6ADC5AAE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DCB0-566B-4878-B79E-D1040E6AB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39F3-D670-4038-BFA6-B3FAC3E4F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8B356-5D16-42DB-AE06-2DB5DA01C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2C0A9-6CB7-4346-81E7-366AE29C3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B360C-4A9A-4B77-B6E9-D8D077549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27CC5-D4C6-4522-B76A-25D3B9ED0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AFFEF-06D0-4D44-84B9-28C8136DE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D70B9-A89E-4151-9FEA-AD0BCD6EE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7377C-F8AE-4B1C-B4CB-5B2CDD62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5D18-07FB-4B70-8D53-EBDEF2E32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F1C0E-A809-439E-AAF0-E68DCD44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D026E-2350-481F-BA4E-B35704BE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39517-E77D-4CD1-99FB-8F1CD8690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5DA31-11F7-46B6-A3F2-384D422E2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DFB0A-0734-4FC8-A512-B6502DA53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A5FC-5003-4FF1-A93C-0CFD5035B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300D-6557-4D06-A0F3-4D1BD0B44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B22C-19C1-4A21-92DE-C0BCAF69B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79B1-F232-4CA3-BB96-BA50165DD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CA20-6EC8-4199-80C7-B1B56132A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F15D-DFC0-424E-B004-EA166DCB1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37AB-6978-4104-8349-C6C2F562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BCCC9-AFD3-480A-B710-CA913B8A113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E8E93-6FD6-4D77-91B6-5FDD3DF2E43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1219320" y="533520"/>
            <a:ext cx="852336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66"/>
                </a:solidFill>
                <a:latin typeface="Arial"/>
              </a:rPr>
              <a:t>The Thought-Filled Curriculum</a:t>
            </a:r>
            <a:br>
              <a:rPr sz="3800"/>
            </a:b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Arthur L. Costa</a:t>
            </a: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62120" y="3429000"/>
            <a:ext cx="28130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519840" y="185400"/>
            <a:ext cx="7417800" cy="116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urpose of the Articl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udents need to learn how to think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do we know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6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lurt out answers before they think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6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pend on teachers for answer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6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ive up easily when things are “too hard.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6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truggle to work well togethe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6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truggle to apply knowledge to new situation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6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afraid to take risk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519840" y="185400"/>
            <a:ext cx="7417800" cy="116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he Five Themes of Thinking Skillfully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80520" y="1752480"/>
            <a:ext cx="8153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) Learning to Thi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69880">
              <a:lnSpc>
                <a:spcPct val="9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rn with the capacity and incl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69880">
              <a:lnSpc>
                <a:spcPct val="9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be taught to be applied, generated, focused, complex, diverg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lassroom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learning the constructs of a poem, students select a poem and analyze meaning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467480" y="2666880"/>
            <a:ext cx="1521000" cy="19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519840" y="185400"/>
            <a:ext cx="7417800" cy="116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he Five Themes of Thinking Skillfully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18284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) Thinking to Lear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69880">
              <a:lnSpc>
                <a:spcPct val="9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ledge construction by creating models and metaphors from personal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lassroom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searching the functions of cell parts, students create analogies to help them remember each function. (ex: cell as a school, cell as a factory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519840" y="185400"/>
            <a:ext cx="7417800" cy="116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he Five Themes of Thinking Skillfully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52280" y="160020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) Thinking Togeth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69880">
              <a:lnSpc>
                <a:spcPct val="8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is recipro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601560">
              <a:lnSpc>
                <a:spcPct val="80000"/>
              </a:lnSpc>
              <a:spcBef>
                <a:spcPts val="649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dividual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grou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6988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oup activiti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601560">
              <a:lnSpc>
                <a:spcPct val="80000"/>
              </a:lnSpc>
              <a:spcBef>
                <a:spcPts val="649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truct own and shared knowled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601560">
              <a:lnSpc>
                <a:spcPct val="80000"/>
              </a:lnSpc>
              <a:spcBef>
                <a:spcPts val="649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ine interconnectedness and coherence of divergent vie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lassroom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fore a new style of group activity, teacher should model the desired group interaction and group produ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257800" y="9144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519840" y="185400"/>
            <a:ext cx="7417800" cy="116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he Five Themes of Thinking Skillfully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) Thinking About Our Own Think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69880">
              <a:lnSpc>
                <a:spcPct val="8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omo sapi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601560">
              <a:lnSpc>
                <a:spcPct val="80000"/>
              </a:lnSpc>
              <a:spcBef>
                <a:spcPts val="649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“being that knows its know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69880">
              <a:lnSpc>
                <a:spcPct val="8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lective conscious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601560">
              <a:lnSpc>
                <a:spcPct val="80000"/>
              </a:lnSpc>
              <a:spcBef>
                <a:spcPts val="649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acogn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lassroom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er should consistently model thought process by “thinking aloud.”  After poetry and cell assignments, students should share their thought processes with a part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858000" y="2362320"/>
            <a:ext cx="1257480" cy="19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519840" y="185400"/>
            <a:ext cx="7417800" cy="116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he Five Themes of Thinking Skillfully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04920" y="15235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) Thinking Bi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564120">
              <a:lnSpc>
                <a:spcPct val="9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ing an interdependent learning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82320" indent="-595440">
              <a:lnSpc>
                <a:spcPct val="90000"/>
              </a:lnSpc>
              <a:spcBef>
                <a:spcPts val="624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are for one anoth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282320" indent="-595440">
              <a:lnSpc>
                <a:spcPct val="90000"/>
              </a:lnSpc>
              <a:spcBef>
                <a:spcPts val="624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arn togeth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282320" indent="-595440">
              <a:lnSpc>
                <a:spcPct val="90000"/>
              </a:lnSpc>
              <a:spcBef>
                <a:spcPts val="624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row toward greater intelligen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lassroom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ny classroom activity, students shoul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connections to the world.  Ex: cells mak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 all living things; the thematic elements 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erature reflect the human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553080" y="2590920"/>
            <a:ext cx="2057400" cy="20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9T21:09:52Z</dcterms:created>
  <dc:creator> Heather Lijoi</dc:creator>
  <dc:description/>
  <dc:language>en-US</dc:language>
  <cp:lastModifiedBy>North Rockland High School</cp:lastModifiedBy>
  <dcterms:modified xsi:type="dcterms:W3CDTF">2008-06-04T18:59:51Z</dcterms:modified>
  <cp:revision>46</cp:revision>
  <dc:subject/>
  <dc:title>The Thought-Filled Curriculum Arthur L. Costa </dc:title>
</cp:coreProperties>
</file>